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A03C9-11DC-4990-AD65-BACF46666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8D2E-3264-4532-A434-D1D28EEC8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6C52F-FC2B-4D52-92B8-8A83171E1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83430-ADB5-4072-9A73-DF09AD52D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B858-B672-479C-95BD-4413C515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3E0A-EB67-4ED2-A32A-28099934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3D03-219C-485E-B416-985A9CD7D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D2E8-A165-4027-999D-7EE4DFC72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63932-895C-4AD6-BC58-892593E93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8B8B-ABC9-4C44-A721-E7879A2F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C976D-0EE5-4C5C-B0C5-42D2C63B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C60E-01EA-45AA-B81D-C6711FFD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A176-D847-4F43-8610-918914D36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819520" y="4572000"/>
            <a:ext cx="3743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 - 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5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p:transition advTm="5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transition advTm="5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3b2</cp:lastModifiedBy>
  <dcterms:modified xsi:type="dcterms:W3CDTF">2012-06-18T10:57:56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